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13C-83BA-4646-9B35-278D8196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C16-D0DD-4C0F-824D-A60F6C81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6F8-65A4-4ADA-8274-3CE58E3C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BA1-A6CB-401E-A48B-F85857BE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9AF-F953-42A9-ACA1-08B0B12F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95B-CB8B-4557-ACF5-E8415AE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6AE-ABF5-40A8-B323-BF13BE2C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E11-2F7B-45C5-84D2-7438BFF4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996-6356-4580-B8FD-D590D36A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C1F-4F6B-4236-8EF5-94F1134E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29E-C549-4F32-9499-E73BF80B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2C0-E140-414B-B16F-75FC3B06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7C8C-DC85-47CA-98B9-87F646D9115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roug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220500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ros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439272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220500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Comic Sans MS"/>
              </a:rPr>
              <a:t>marro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439272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Comic Sans MS"/>
              </a:rPr>
              <a:t>noir</a:t>
            </a:r>
            <a:r>
              <a:rPr b="1" i="1" lang="en-US" sz="13000" spc="-1" strike="noStrike">
                <a:solidFill>
                  <a:srgbClr val="ff0000"/>
                </a:solidFill>
                <a:latin typeface="Comic Sans MS"/>
              </a:rPr>
              <a:t>(e)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036000" cy="2205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Comic Sans MS"/>
              </a:rPr>
              <a:t>bleu</a:t>
            </a:r>
            <a:r>
              <a:rPr b="1" i="1" lang="en-US" sz="13000" spc="-1" strike="noStrike">
                <a:solidFill>
                  <a:srgbClr val="ff0000"/>
                </a:solidFill>
                <a:latin typeface="Comic Sans MS"/>
              </a:rPr>
              <a:t>(e)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2205000"/>
            <a:ext cx="9036000" cy="2205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Comic Sans MS"/>
              </a:rPr>
              <a:t>vert</a:t>
            </a:r>
            <a:r>
              <a:rPr b="1" i="1" lang="en-US" sz="13000" spc="-1" strike="noStrike">
                <a:solidFill>
                  <a:srgbClr val="ff0000"/>
                </a:solidFill>
                <a:latin typeface="Comic Sans MS"/>
              </a:rPr>
              <a:t>(e)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0" y="4392720"/>
            <a:ext cx="9036000" cy="2205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gris</a:t>
            </a:r>
            <a:r>
              <a:rPr b="1" i="1" lang="en-US" sz="13000" spc="-1" strike="noStrike">
                <a:solidFill>
                  <a:srgbClr val="ff0000"/>
                </a:solidFill>
                <a:latin typeface="Comic Sans MS"/>
              </a:rPr>
              <a:t>(e)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Comic Sans MS"/>
              </a:rPr>
              <a:t>violet</a:t>
            </a:r>
            <a:r>
              <a:rPr b="1" i="1" lang="en-US" sz="13000" spc="-1" strike="noStrike">
                <a:solidFill>
                  <a:srgbClr val="ff0000"/>
                </a:solidFill>
                <a:latin typeface="Comic Sans MS"/>
              </a:rPr>
              <a:t>(te)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220500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0" spc="-1" strike="noStrike">
                <a:solidFill>
                  <a:srgbClr val="000000"/>
                </a:solidFill>
                <a:latin typeface="Comic Sans MS"/>
              </a:rPr>
              <a:t>blanc</a:t>
            </a:r>
            <a:r>
              <a:rPr b="1" i="1" lang="fr-FR" sz="13000" spc="-1" strike="noStrike">
                <a:solidFill>
                  <a:srgbClr val="ff0000"/>
                </a:solidFill>
                <a:latin typeface="Comic Sans MS"/>
              </a:rPr>
              <a:t>(he)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1:20:18Z</dcterms:created>
  <dc:creator>Ludivine</dc:creator>
  <dc:description/>
  <dc:language>en-US</dc:language>
  <cp:lastModifiedBy>llegal</cp:lastModifiedBy>
  <dcterms:modified xsi:type="dcterms:W3CDTF">2007-09-04T07:30:53Z</dcterms:modified>
  <cp:revision>2</cp:revision>
  <dc:subject/>
  <dc:title>Diapositive 1</dc:title>
</cp:coreProperties>
</file>